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2FCC-E456-4C9B-ABF5-FFE59DC101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A2FC-23DA-413D-8713-81F2C93143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EDBC-3FE6-4F16-807C-37F29C99F2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952B-59C0-460C-9F0E-50FBFDB7A1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A928-5050-483C-AA41-BB594F567D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45D9-E32B-4FC3-BAE5-DB111D88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9F52-C52F-418E-B3FB-2B2B17CE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A9FB-B9BF-464F-85E5-8D8F2091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310F-4A02-4B0B-8322-7AB7CC85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39BD-5D0F-46C6-BA18-5F9A1520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A9D2-3FA1-4BD1-BAB7-2AFC5648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D60C-C559-4062-94FF-73AF810A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EC8A-CFCD-4842-A4F1-1AEB1844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59F5-B4B2-4DAF-A831-9FED132C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3E50-07BB-4829-9E61-F7EB4818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AF6E-798F-4C53-8C04-994E4398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B61A-4CE9-436E-95B5-6207C290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7FED-9CD7-44B0-8423-9990C187CC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u.wikipedia.org/wiki/1923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06.jpg"/>
          <p:cNvPicPr/>
          <p:nvPr/>
        </p:nvPicPr>
        <p:blipFill>
          <a:blip r:embed="rId1"/>
          <a:stretch/>
        </p:blipFill>
        <p:spPr>
          <a:xfrm>
            <a:off x="-30240" y="0"/>
            <a:ext cx="920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Что сегодня, в мирное время, может каждый из нас сделать ради жизни на земле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оем письме капитан Масловский обращался к сыну Юрию: «Ну вот, милый мой сын, ну вот мы больше не увидимся. Я получил задание, выполнив которое, не вернусь живым… Этого ты, мой малыш, не пугайся, а гордись той смелостью, с которой пойдет твой папа к смерти, но к победе. От выполнения моего задания зависит жизнь тысяч людей. Сын, ты в каждом письме просил и ждал моего возвращения. Без обмана: больше не жди и не огорчайся, что оставляю тебя. Ты не один, с тобой Родина! Прощай сын! Прощайте все! Любите Родину. Январь 1944 г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2" name="Рисунок 3" descr="1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9487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6"/>
          <p:cNvSpPr/>
          <p:nvPr/>
        </p:nvSpPr>
        <p:spPr>
          <a:xfrm>
            <a:off x="1500120" y="1428840"/>
            <a:ext cx="5572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виг — доблестное, важное для многих людей действие; героический поступок, совершённый в трудных услови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ликов Леонид Александрович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1926—1943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ый герой-партиза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49120" y="1938240"/>
            <a:ext cx="4494240" cy="424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5510160" y="1657440"/>
            <a:ext cx="32371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5" descr=""/>
          <p:cNvPicPr/>
          <p:nvPr/>
        </p:nvPicPr>
        <p:blipFill>
          <a:blip r:embed="rId1"/>
          <a:stretch/>
        </p:blipFill>
        <p:spPr>
          <a:xfrm>
            <a:off x="682560" y="1487520"/>
            <a:ext cx="7961400" cy="5254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558720" y="1584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Зоя Космодемьян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13 сентября 1923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2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29 ноября 194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асноармеец, партиз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5.jpg"/>
          <p:cNvPicPr/>
          <p:nvPr/>
        </p:nvPicPr>
        <p:blipFill>
          <a:blip r:embed="rId1"/>
          <a:stretch/>
        </p:blipFill>
        <p:spPr>
          <a:xfrm>
            <a:off x="0" y="-90360"/>
            <a:ext cx="9144000" cy="6948360"/>
          </a:xfrm>
          <a:prstGeom prst="rect">
            <a:avLst/>
          </a:prstGeom>
          <a:ln w="0">
            <a:noFill/>
          </a:ln>
        </p:spPr>
      </p:pic>
      <p:pic>
        <p:nvPicPr>
          <p:cNvPr id="61" name="Proshanie_slavyanki.mp3" descr=""/>
          <p:cNvPicPr/>
          <p:nvPr/>
        </p:nvPicPr>
        <p:blipFill>
          <a:blip r:embed="rId2"/>
          <a:stretch/>
        </p:blipFill>
        <p:spPr>
          <a:xfrm>
            <a:off x="21420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Proshanie_slavyanki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424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4241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5424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оем письме капитан Масловский обращался к сыну Юрию: «Ну вот, милый мой сын, ну вот мы больше не увидимся. Я получил задание, выполнив которое, не вернусь живым… Этого ты, мой малыш, не пугайся, а гордись той смелостью, с которой пойдет твой папа к смерти, но к победе. От выполнения моего задания зависит жизнь тысяч людей. Сын, ты в каждом письме просил и ждал моего возвращения. Без обмана: больше не жди и не огорчайся, что оставляю тебя. Ты не один, с тобой Родина! Прощай сын! Прощайте все! Любите Родину. Январь 1944 г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pic>
        <p:nvPicPr>
          <p:cNvPr id="66" name="naberlin.mp3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85328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 жизни на земл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5T04:37:44Z</dcterms:created>
  <dc:creator>Di Jd</dc:creator>
  <dc:description/>
  <dc:language>en-US</dc:language>
  <cp:lastModifiedBy>мбоу сош №8-28</cp:lastModifiedBy>
  <dcterms:modified xsi:type="dcterms:W3CDTF">2015-03-26T06:31:53Z</dcterms:modified>
  <cp:revision>15</cp:revision>
  <dc:subject/>
  <dc:title>Презентация PowerPoint</dc:title>
</cp:coreProperties>
</file>